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46888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85D6-EAF8-4109-8D85-039E17658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DB33-36CF-40B4-9987-8A14D70C2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ED2A-3D62-409E-B687-78C6C65DB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3988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5894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22082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3988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5894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0D1C-046B-4740-8A1E-9A3DD8981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D0ED2-0430-43C3-BB39-CB2AEC4F3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06E81-A2E1-4863-BF37-3B6FF5D0B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96453-A112-49C8-A6F8-43F95F83E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9F21E-F19E-4350-8559-EF4FF0D1B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8A3B2-A4EE-4C96-AE16-40CEE4E3A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1905120" y="3805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01964-35E6-444C-80B5-285B11C41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DCCE8-C1F5-41C8-B9A9-58E1CB3D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CA33-D1BA-45EB-87D8-42A4E126E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F17DF-04AE-4EAA-95E9-BDC31815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48A3D-56E7-4345-9497-9948E70DE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51BEF-1191-4589-B900-BAAE57236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8FD19-5BB8-41F3-9C10-9BB669DD9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3988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5894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22082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43988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5894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5BC92-93A7-43A5-A184-FB9CA3D71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059A-20B5-4C70-B303-6216E88EC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B9D8-1F42-414F-A1FA-24AD33F00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5A93-F2B1-4748-8FB6-A0CAAE3C5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905120" y="3805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C7BB-D1E1-4CE2-AE54-02E7E9385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6502-599A-4E81-ACCD-003CE569D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D22A-9A27-4891-B92C-AA159D285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8DCD-F00B-4D93-A4C5-B98BAFB6D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2280" y="1981080"/>
            <a:ext cx="1676520" cy="4876920"/>
            <a:chOff x="152280" y="1981080"/>
            <a:chExt cx="1676520" cy="4876920"/>
          </a:xfrm>
        </p:grpSpPr>
        <p:sp>
          <p:nvSpPr>
            <p:cNvPr id="1" name="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4920" y="1981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990720" y="1981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  <a:p>
            <a:pPr lvl="2" marL="1062720" indent="-21240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  <a:p>
            <a:pPr lvl="3" marL="1487880" indent="-212400">
              <a:spcBef>
                <a:spcPts val="799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  <a:p>
            <a:pPr lvl="4" marL="1913040" indent="-212400">
              <a:spcBef>
                <a:spcPts val="799"/>
              </a:spcBef>
              <a:buClr>
                <a:srgbClr val="00ffc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  <a:p>
            <a:pPr lvl="5" marL="1913040" indent="-212400">
              <a:spcBef>
                <a:spcPts val="799"/>
              </a:spcBef>
              <a:buClr>
                <a:srgbClr val="ffcc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  <a:p>
            <a:pPr lvl="6" marL="1913040" indent="-212400">
              <a:spcBef>
                <a:spcPts val="799"/>
              </a:spcBef>
              <a:buClr>
                <a:srgbClr val="ffcc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57200"/>
            <a:ext cx="1066680" cy="12193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50840" y="230040"/>
            <a:ext cx="1600200" cy="1598760"/>
            <a:chOff x="150840" y="230040"/>
            <a:chExt cx="1600200" cy="1598760"/>
          </a:xfrm>
        </p:grpSpPr>
        <p:sp>
          <p:nvSpPr>
            <p:cNvPr id="53" name=""/>
            <p:cNvSpPr/>
            <p:nvPr/>
          </p:nvSpPr>
          <p:spPr>
            <a:xfrm>
              <a:off x="684360" y="458640"/>
              <a:ext cx="380880" cy="38124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6640" y="992160"/>
              <a:ext cx="380880" cy="38088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293840" y="1069920"/>
              <a:ext cx="380880" cy="38088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370160" y="461880"/>
              <a:ext cx="380880" cy="38124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6400" y="1295280"/>
              <a:ext cx="381240" cy="38124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222200" y="1447920"/>
              <a:ext cx="381240" cy="38088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31720" y="914400"/>
              <a:ext cx="381240" cy="38088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5240" y="1219320"/>
              <a:ext cx="380880" cy="38088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1447920"/>
              <a:ext cx="380880" cy="38088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988920" y="534960"/>
              <a:ext cx="381240" cy="38088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141560" y="687240"/>
              <a:ext cx="380880" cy="38124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8040" y="763560"/>
              <a:ext cx="380880" cy="38088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03120" y="1068480"/>
              <a:ext cx="381240" cy="38088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27160" y="611280"/>
              <a:ext cx="380880" cy="38088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50840" y="1297080"/>
              <a:ext cx="380880" cy="38088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141560" y="230040"/>
              <a:ext cx="380880" cy="38124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79440" y="306360"/>
              <a:ext cx="380880" cy="38088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304920" y="165240"/>
            <a:ext cx="1295280" cy="291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320" y="380880"/>
            <a:ext cx="380880" cy="6499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280" y="1295280"/>
            <a:ext cx="3049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1676520"/>
            <a:ext cx="1295280" cy="291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304920"/>
            <a:ext cx="381240" cy="6586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23880" y="1295280"/>
            <a:ext cx="68580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1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C5814-AC52-4492-8517-AE118E3DAFF1}" type="datetime"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2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3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3F475-3C88-40AC-A97E-EA36012BA89F}" type="slidenum"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"/>
          <p:cNvGrpSpPr/>
          <p:nvPr/>
        </p:nvGrpSpPr>
        <p:grpSpPr>
          <a:xfrm>
            <a:off x="152280" y="1981080"/>
            <a:ext cx="1676520" cy="4876920"/>
            <a:chOff x="152280" y="1981080"/>
            <a:chExt cx="1676520" cy="4876920"/>
          </a:xfrm>
        </p:grpSpPr>
        <p:sp>
          <p:nvSpPr>
            <p:cNvPr id="117" name="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4920" y="1981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990720" y="1981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457200"/>
            <a:ext cx="1066680" cy="12193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50840" y="230040"/>
            <a:ext cx="1600200" cy="1598760"/>
            <a:chOff x="150840" y="230040"/>
            <a:chExt cx="1600200" cy="1598760"/>
          </a:xfrm>
        </p:grpSpPr>
        <p:sp>
          <p:nvSpPr>
            <p:cNvPr id="167" name=""/>
            <p:cNvSpPr/>
            <p:nvPr/>
          </p:nvSpPr>
          <p:spPr>
            <a:xfrm>
              <a:off x="684360" y="458640"/>
              <a:ext cx="380880" cy="38124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36640" y="992160"/>
              <a:ext cx="380880" cy="38088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293840" y="1069920"/>
              <a:ext cx="380880" cy="38088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370160" y="461880"/>
              <a:ext cx="380880" cy="38124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6400" y="1295280"/>
              <a:ext cx="381240" cy="38124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222200" y="1447920"/>
              <a:ext cx="381240" cy="38088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31720" y="914400"/>
              <a:ext cx="381240" cy="38088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065240" y="1219320"/>
              <a:ext cx="380880" cy="38088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4360" y="1447920"/>
              <a:ext cx="380880" cy="38088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988920" y="534960"/>
              <a:ext cx="381240" cy="38088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41560" y="687240"/>
              <a:ext cx="380880" cy="38124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08040" y="763560"/>
              <a:ext cx="380880" cy="38088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03120" y="1068480"/>
              <a:ext cx="381240" cy="38088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27160" y="611280"/>
              <a:ext cx="380880" cy="38088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50840" y="1297080"/>
              <a:ext cx="380880" cy="38088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141560" y="230040"/>
              <a:ext cx="380880" cy="38124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79440" y="306360"/>
              <a:ext cx="380880" cy="38088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304920" y="152280"/>
            <a:ext cx="1295280" cy="30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320" y="371520"/>
            <a:ext cx="380880" cy="648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2280" y="1295280"/>
            <a:ext cx="3049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4920" y="1676520"/>
            <a:ext cx="1295280" cy="291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23880" y="304920"/>
            <a:ext cx="381240" cy="657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23880" y="1295280"/>
            <a:ext cx="68580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4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E1B6E-EF73-4D89-AECE-70F1FD3CE7EE}" type="datetime"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ftr" idx="5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sldNum" idx="6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E0057-5EB5-4AA4-A740-8EF3B9A9EFC1}" type="slidenum"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ffcc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cc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Helvetic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cc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cc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cc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cc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cc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SOAR  Expectations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2514600" y="2971800"/>
            <a:ext cx="58197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99"/>
                </a:solidFill>
                <a:latin typeface="Arial"/>
              </a:rPr>
              <a:t>Health Education</a:t>
            </a:r>
            <a:endParaRPr b="0" lang="en-US" sz="4800" spc="-1" strike="noStrike">
              <a:solidFill>
                <a:srgbClr val="ffcc99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99"/>
                </a:solidFill>
                <a:latin typeface="Arial"/>
              </a:rPr>
              <a:t>At</a:t>
            </a:r>
            <a:endParaRPr b="0" lang="en-US" sz="4800" spc="-1" strike="noStrike">
              <a:solidFill>
                <a:srgbClr val="ffcc99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99"/>
                </a:solidFill>
                <a:latin typeface="Arial"/>
              </a:rPr>
              <a:t>Englewood Middle School</a:t>
            </a:r>
            <a:endParaRPr b="0" lang="en-US" sz="4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92A76-5844-4A3D-9FD2-2337E24FD0F3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55F2C954-6C7E-45BF-915F-67AFC7914CB9}" type="datetime1">
              <a:rPr lang="en-US"/>
              <a:t>07/29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Our Vision for the Future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Learn Health concepts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Practice Health-enhancing skills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Become Health literate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Develop Health advocacy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592C-C57D-4FBB-A345-AD7C4F72859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7D2341-58A0-427E-AF10-B8C627DBE8EA}" type="datetime1">
              <a:rPr lang="en-US"/>
              <a:t>07/29/26</a:t>
            </a:fld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Safety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209680" y="220932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Emotional Safety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Everyone has a right to learn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Take care not to take that away by being hurtful or dismissive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We may be dealing with sensitive issues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Listen with an open mind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Accept that people are different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What’s said in Health, stays in Health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2DBF-A12D-4799-9169-683BE70BEE1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02BE36-979A-4FD1-93F3-6644D1B608E8}" type="datetime1">
              <a:rPr lang="en-US"/>
              <a:t>07/29/26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Safety (continued)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Class participation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Full Value Contract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There are no stupid questions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Positive comments or none at all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Fierce discussions, not arguments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Agree to disagree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Discuss frankly but protectively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894D-CD32-4252-B137-77A75163BEF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FC0555-C7E9-4BF9-B18B-D83A18EABFC8}" type="datetime1">
              <a:rPr lang="en-US"/>
              <a:t>07/29/26</a:t>
            </a:fld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Ownership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Take responsibility for learning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Own your actions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Take on each task with full commitment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Make every portfolio entry your best work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Practice Internet Safety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E831-5C4D-4789-9A4C-67950818DBF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F6133A-B7A7-4988-B03D-B0AB26004A7A}" type="datetime1">
              <a:rPr lang="en-US"/>
              <a:t>07/29/26</a:t>
            </a:fld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Achievemen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09680" y="2286000"/>
            <a:ext cx="647856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Participate fully and appropriately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Engage in class discussions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Work cooperatively in groups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Be productive at all times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Plan to work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In class and at home 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Take pride in your work 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C50C-F3E4-4DA4-952B-4E262DBAA3F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AEA35E-0400-42D2-8089-50CFC45A81B7}" type="datetime1">
              <a:rPr lang="en-US"/>
              <a:t>07/29/26</a:t>
            </a:fld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Achievement (continued)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Use all your tools for learning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Know your textbook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Come to class prepared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Maintain a neat class folder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Take quality notes (Cornell and Foldables)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Study for assessments 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Set goals for achievement and personal improvement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96E1-5D10-464B-A23C-E26F5D30B27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C083CF-F614-44FC-8401-28A02147E98B}" type="datetime1">
              <a:rPr lang="en-US"/>
              <a:t>07/29/26</a:t>
            </a:fld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Respec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Take care of yourself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Get enough sleep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Eat sensibly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Exercise regularly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Drink plenty of water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Trust your feelings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Honor your beliefs and culture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04C0-952F-4128-A0DF-865069C6CE0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C34D6E-81B1-4C3F-87EF-62DE00D820B2}" type="datetime1">
              <a:rPr lang="en-US"/>
              <a:t>07/29/26</a:t>
            </a:fld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Respect (continued)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Take care of others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Treat people fairly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Acknowledge differences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Share commonalities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Be gentle with feelings and emotions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F59B-E0AE-417E-98B0-4DC086F4059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011887-9CB2-4CA0-A22D-250C7D1A54F3}" type="datetime1">
              <a:rPr lang="en-US"/>
              <a:t>07/29/26</a:t>
            </a:fld>
          </a:p>
        </p:txBody>
      </p: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1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1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10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10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Respect (continued)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Take care of things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Textbooks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Equipment and supplies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Class Folder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Health Education Portfolio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Classroom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E113-E890-4252-BBDA-56B08E436DF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4BF815-F372-47AF-9E57-BE5690D55D37}" type="datetime1">
              <a:rPr lang="en-US"/>
              <a:t>07/29/26</a:t>
            </a:fld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1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1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1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10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10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10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4-01-01T00:00:00Z</dcterms:created>
  <dc:creator/>
  <dc:description/>
  <dc:language>en-US</dc:language>
  <cp:lastModifiedBy>Tech Services</cp:lastModifiedBy>
  <cp:lastPrinted>1904-01-01T00:00:00Z</cp:lastPrinted>
  <dcterms:modified xsi:type="dcterms:W3CDTF">2010-08-15T23:27:52Z</dcterms:modified>
  <cp:revision>4</cp:revision>
  <dc:subject/>
  <dc:title>Communicating Bad News</dc:title>
</cp:coreProperties>
</file>