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0C2-5A8B-4C19-B679-6CF02076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717-9173-4A1F-ADF1-44AEDCA6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2E5-7CF6-4108-967D-8A2C3ED6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54F-489F-4A3D-9BA4-393388C8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7B11-5F0B-4402-AFCB-99D87CE3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0D71-7890-4F79-9705-7399863C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691E-96C7-4DA8-A72E-47CA9599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CCC1-D3F7-4A50-8345-51AA03B7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605F-5664-49C7-BBCA-BAE724DB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B219-1DE1-4954-B57A-865858CB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A730-328D-487D-B73B-BDD26B57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EB1-191F-4B4C-A6BD-48437C64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D088-DF38-4614-8075-46B644FA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2A1E-6BF4-4F12-BFB8-CE0C048C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396D-F510-493B-914B-CC327DD8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0055-95AA-45F2-BD46-BA89A026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0CE3-9A5D-4816-AB17-C07F6019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379-ACC5-44AA-BCE0-B4AFAE0E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126-D51C-44C9-B5A0-7444950C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ACD-A18F-4612-9D74-4C9F3F40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348-F2F3-49F4-9B96-BB912F95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F3B-E260-4171-99F4-B32541CF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F98A-FBA8-4969-B700-75FD2866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387-C18B-4D68-AC66-05A2B819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1981080"/>
            <a:ext cx="1676520" cy="4876920"/>
            <a:chOff x="152280" y="1981080"/>
            <a:chExt cx="1676520" cy="4876920"/>
          </a:xfrm>
        </p:grpSpPr>
        <p:sp>
          <p:nvSpPr>
            <p:cNvPr id="1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4920" y="1981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90720" y="1981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ff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cc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cc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57200"/>
            <a:ext cx="1066680" cy="121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0840" y="230040"/>
            <a:ext cx="1600200" cy="1598760"/>
            <a:chOff x="150840" y="230040"/>
            <a:chExt cx="1600200" cy="1598760"/>
          </a:xfrm>
        </p:grpSpPr>
        <p:sp>
          <p:nvSpPr>
            <p:cNvPr id="53" name=""/>
            <p:cNvSpPr/>
            <p:nvPr/>
          </p:nvSpPr>
          <p:spPr>
            <a:xfrm>
              <a:off x="684360" y="4586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6640" y="9921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93840" y="10699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70160" y="46188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6400" y="1295280"/>
              <a:ext cx="38124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22200" y="144792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1720" y="91440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5240" y="12193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14479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88920" y="53496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41560" y="6872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8040" y="7635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3120" y="106848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7160" y="61128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0840" y="129708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41560" y="2300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9440" y="3063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4920" y="165240"/>
            <a:ext cx="129528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380880"/>
            <a:ext cx="380880" cy="649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295280"/>
            <a:ext cx="3049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676520"/>
            <a:ext cx="129528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04920"/>
            <a:ext cx="381240" cy="658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1295280"/>
            <a:ext cx="68580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76F7-AB32-410A-BEB8-54E01922D8DF}" type="datetime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3A86-7EE0-4E3F-9922-8DF1A873B165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52280" y="1981080"/>
            <a:ext cx="1676520" cy="4876920"/>
            <a:chOff x="152280" y="1981080"/>
            <a:chExt cx="1676520" cy="4876920"/>
          </a:xfrm>
        </p:grpSpPr>
        <p:sp>
          <p:nvSpPr>
            <p:cNvPr id="117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920" y="1981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1981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57200"/>
            <a:ext cx="1066680" cy="121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50840" y="230040"/>
            <a:ext cx="1600200" cy="1598760"/>
            <a:chOff x="150840" y="230040"/>
            <a:chExt cx="1600200" cy="1598760"/>
          </a:xfrm>
        </p:grpSpPr>
        <p:sp>
          <p:nvSpPr>
            <p:cNvPr id="167" name=""/>
            <p:cNvSpPr/>
            <p:nvPr/>
          </p:nvSpPr>
          <p:spPr>
            <a:xfrm>
              <a:off x="684360" y="4586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6640" y="9921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3840" y="10699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70160" y="46188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6400" y="1295280"/>
              <a:ext cx="38124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22200" y="144792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1720" y="91440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65240" y="12193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4360" y="14479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88920" y="53496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1560" y="6872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8040" y="7635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3120" y="106848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7160" y="61128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0840" y="129708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41560" y="2300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9440" y="3063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04920" y="152280"/>
            <a:ext cx="12952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371520"/>
            <a:ext cx="380880" cy="648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1295280"/>
            <a:ext cx="3049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676520"/>
            <a:ext cx="129528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304920"/>
            <a:ext cx="381240" cy="657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1295280"/>
            <a:ext cx="68580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BB05-6153-45CA-8002-04AA0BAFC537}" type="datetime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F596-48BE-48E0-A51B-940218197804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cc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cc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OAR  Expectation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514600" y="29718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Arial"/>
              </a:rPr>
              <a:t>Health Education</a:t>
            </a:r>
            <a:endParaRPr b="0" lang="en-US" sz="4800" spc="-1" strike="noStrike">
              <a:solidFill>
                <a:srgbClr val="ffcc99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Arial"/>
              </a:rPr>
              <a:t>At</a:t>
            </a:r>
            <a:endParaRPr b="0" lang="en-US" sz="4800" spc="-1" strike="noStrike">
              <a:solidFill>
                <a:srgbClr val="ffcc99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Arial"/>
              </a:rPr>
              <a:t>Englewood Middle School</a:t>
            </a:r>
            <a:endParaRPr b="0" lang="en-US" sz="4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CA39-9DDB-4741-87B6-413CB994BC5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6821D8D-F044-4FAC-9329-0F65C579BB6D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Our Vision for the Futur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Learn Health concept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Practice Health-enhancing skill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Become Health literate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Develop Health advocacy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871-637B-40F3-93E4-17251285D49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52486-FEFF-401A-BCDD-C820B5843095}" type="datetime1">
              <a:rPr lang="en-US"/>
              <a:t>07/29/26</a:t>
            </a:fld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09680" y="220932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Emotional Safety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Everyone has a right to learn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Take care not to take that away by being hurtful or dismissive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We may be dealing with sensitive issue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Listen with an open mind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Accept that people are different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hat’s said in Health, stays in Health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D5B-CFC8-40C7-82C6-D877E18B26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06D54-7758-49C0-B046-D6680E76FB39}" type="datetime1">
              <a:rPr lang="en-US"/>
              <a:t>07/29/26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afety (continued)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Class participation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Full Value Contract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There are no stupid questions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Positive comments or none at all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Fierce discussions, not argument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Agree to disagree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Discuss frankly but protectively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0F46-0592-4A3B-9A82-ABA3F4ABFC9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7654C-0003-4EEC-A4ED-AC9DFC6FE3BC}" type="datetime1">
              <a:rPr lang="en-US"/>
              <a:t>07/29/26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Ownership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ake responsibility for learning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Own your action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ake on each task with full commitment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Make every portfolio entry your best work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Practice Internet Safety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E33-9BB1-487D-AC5E-710B3545BD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3C854-83A6-43D5-9351-297577323391}" type="datetime1">
              <a:rPr lang="en-US"/>
              <a:t>07/29/26</a:t>
            </a:fld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Achievemen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09680" y="2286000"/>
            <a:ext cx="64785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Participate fully and appropriately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Engage in class discussions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ork cooperatively in groups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Be productive at all times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Plan to work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In class and at home 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ake pride in your work 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1F5-1ED8-4291-9638-C1BE0AF690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5FE97-E81D-4B34-A3CD-7A322AC4661D}" type="datetime1">
              <a:rPr lang="en-US"/>
              <a:t>07/29/26</a:t>
            </a:fld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Achievement (continued)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Use all your tools for learning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Know your textbook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Come to class prepared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Maintain a neat class folder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Take quality notes (Cornell and Foldables)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Study for assessments 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et goals for achievement and personal improvemen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89C6-AD86-437F-9E1E-F65A36C26C1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BBC66-6569-4C17-B42A-359946FA68BA}" type="datetime1">
              <a:rPr lang="en-US"/>
              <a:t>07/29/26</a:t>
            </a:fld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Respec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ake care of yourself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Get enough sleep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Eat sensibly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Exercise regularly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Drink plenty of water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rust your feeling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Honor your beliefs and culture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BFA-15CC-4B5B-BE43-E7F5CDC1A3F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7584B-BB73-48C2-973C-2A935AA9514A}" type="datetime1">
              <a:rPr lang="en-US"/>
              <a:t>07/29/26</a:t>
            </a:fld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Respect (continued)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ake care of other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reat people fairly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Acknowledge difference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hare commonalitie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Be gentle with feelings and emotion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2A0-85A5-41C8-B974-B355FC85BE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0232B-2CA3-4254-B355-92B09833A01A}" type="datetime1">
              <a:rPr lang="en-US"/>
              <a:t>07/29/26</a:t>
            </a:fld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Respect (continued)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ake care of thing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extbook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Equipment and supplie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Class Folder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Health Education Portfolio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Classroom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2E73-D6AC-4818-BF90-61A6A2C9440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508B7-99FB-4DC5-B088-373503AB6ABC}" type="datetime1">
              <a:rPr lang="en-US"/>
              <a:t>07/29/26</a:t>
            </a:fld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Tech Services</cp:lastModifiedBy>
  <cp:lastPrinted>1904-01-01T00:00:00Z</cp:lastPrinted>
  <dcterms:modified xsi:type="dcterms:W3CDTF">2010-08-15T23:27:52Z</dcterms:modified>
  <cp:revision>4</cp:revision>
  <dc:subject/>
  <dc:title>Communicating Bad News</dc:title>
</cp:coreProperties>
</file>