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46888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39088-41AD-4FA8-B0D3-364ED94D0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CFEB-BAED-4ED0-B048-A636E84E4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B4A1-8F54-4C23-8936-D7C4F276E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068A-DA70-4756-AF19-DB38E9E6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29AE-6C62-416F-BCF5-1004FC6B4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F117F-08C2-46AE-B97A-16C84187F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1206A-CB15-4597-8022-1DB5EF410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FA8-3D34-46DD-90DF-AE4C0DF9D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B3A82-5642-4BAC-B9A0-FC1B0F6F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396B0-A844-4AD5-8ECE-59392058C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13CA-CC54-4936-8C42-6BA3A593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52666-AC7A-44F6-8054-30A8BD4B4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54468-3F35-402D-B78E-7C59C0FBF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5660-DCB1-4B08-93F4-EE6643A9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00C2D-9625-43A3-BFE0-D8CB0DD7F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1A9FA-5D33-418B-BDE9-DDD85DF4F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3988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589440" y="228564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22082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43988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589440" y="4315680"/>
            <a:ext cx="20858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6BF6E-407E-42A0-AFD5-2F3495E5C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D22FD-5F81-4B0A-80F2-51649BAD1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79A6-3F96-4794-A15E-366908C16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3C5B-EB88-4BEA-8B4F-15ED1F365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905120" y="380520"/>
            <a:ext cx="7162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95E6-ABB9-4E63-AA91-D072163F9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6FA0-326D-44DD-B34F-1B762D7F6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528160" y="431568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38C6-B9E0-4766-9025-0CBD489A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8160" y="2285640"/>
            <a:ext cx="31615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2208240" y="4315680"/>
            <a:ext cx="6478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22F7-F225-422D-AFC7-7C901021B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690840" indent="-26568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2" marL="1062720" indent="-212400">
              <a:spcBef>
                <a:spcPts val="799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3" marL="148788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4" marL="1913040" indent="-212400">
              <a:spcBef>
                <a:spcPts val="799"/>
              </a:spcBef>
              <a:buClr>
                <a:srgbClr val="00ffc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5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6" marL="1913040" indent="-212400">
              <a:spcBef>
                <a:spcPts val="7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53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304920" y="16524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320" y="380880"/>
            <a:ext cx="380880" cy="6499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304920"/>
            <a:ext cx="381240" cy="6586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1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7EC61-E356-4FB3-B037-3C3A14BB8644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2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3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7B6CD-A8C2-499B-85E1-1737AD74AEA8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152280" y="1981080"/>
            <a:ext cx="1676520" cy="4876920"/>
            <a:chOff x="152280" y="1981080"/>
            <a:chExt cx="1676520" cy="4876920"/>
          </a:xfrm>
        </p:grpSpPr>
        <p:sp>
          <p:nvSpPr>
            <p:cNvPr id="117" name=""/>
            <p:cNvSpPr/>
            <p:nvPr/>
          </p:nvSpPr>
          <p:spPr>
            <a:xfrm>
              <a:off x="457200" y="1981080"/>
              <a:ext cx="1066680" cy="48754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49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808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3352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990720" y="1981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200" y="20574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0880" y="4572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19320" y="2438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38080" y="2743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9144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0948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4920" y="2819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8088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14400" y="3657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5800" y="3581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352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295280" y="3505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66680" y="4267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4648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143000" y="3733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4920" y="4038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219320" y="2971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28600" y="3124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0720" y="48769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808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948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3520" y="4952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19320" y="51814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720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14400" y="54100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38080" y="57913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066680" y="57150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9480" y="62485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914400" y="617364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95280" y="639936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8600" y="6400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38080" y="41148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143000" y="213372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522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371600" y="44956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371600" y="26668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71600" y="50292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371600" y="586728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38080" y="2514600"/>
              <a:ext cx="457200" cy="457200"/>
            </a:xfrm>
            <a:prstGeom prst="ellipse">
              <a:avLst/>
            </a:prstGeom>
            <a:noFill/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905120" y="1982880"/>
            <a:ext cx="7010280" cy="4875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52280" y="1295280"/>
            <a:ext cx="87631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457200"/>
            <a:ext cx="1066680" cy="12193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150840" y="230040"/>
            <a:ext cx="1600200" cy="1598760"/>
            <a:chOff x="150840" y="230040"/>
            <a:chExt cx="1600200" cy="1598760"/>
          </a:xfrm>
        </p:grpSpPr>
        <p:sp>
          <p:nvSpPr>
            <p:cNvPr id="167" name=""/>
            <p:cNvSpPr/>
            <p:nvPr/>
          </p:nvSpPr>
          <p:spPr>
            <a:xfrm>
              <a:off x="684360" y="4586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36640" y="9921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293840" y="1069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70160" y="46188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36400" y="1295280"/>
              <a:ext cx="38124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22200" y="144792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1720" y="91440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065240" y="12193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4360" y="144792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988920" y="53496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1560" y="6872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08040" y="7635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03120" y="1068480"/>
              <a:ext cx="38124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7160" y="6112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0840" y="129708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41560" y="230040"/>
              <a:ext cx="380880" cy="38124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79440" y="306360"/>
              <a:ext cx="380880" cy="380880"/>
            </a:xfrm>
            <a:prstGeom prst="ellipse">
              <a:avLst/>
            </a:prstGeom>
            <a:noFill/>
            <a:ln cap="sq"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cc99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>
            <a:off x="304920" y="152280"/>
            <a:ext cx="1295280" cy="304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76320" y="371520"/>
            <a:ext cx="380880" cy="648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2280" y="1295280"/>
            <a:ext cx="30492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04920" y="1676520"/>
            <a:ext cx="1295280" cy="291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523880" y="304920"/>
            <a:ext cx="381240" cy="657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523880" y="1295280"/>
            <a:ext cx="685800" cy="152640"/>
          </a:xfrm>
          <a:prstGeom prst="rect">
            <a:avLst/>
          </a:prstGeom>
          <a:solidFill>
            <a:srgbClr val="ff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0" y="6029280"/>
            <a:ext cx="222120" cy="82728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4"/>
          </p:nvPr>
        </p:nvSpPr>
        <p:spPr>
          <a:xfrm>
            <a:off x="2558880" y="6470640"/>
            <a:ext cx="1346400" cy="38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C741-7B95-4C98-A829-B660C37C1468}" type="datetime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ftr" idx="5"/>
          </p:nvPr>
        </p:nvSpPr>
        <p:spPr>
          <a:xfrm>
            <a:off x="3984480" y="6477120"/>
            <a:ext cx="354024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6"/>
          </p:nvPr>
        </p:nvSpPr>
        <p:spPr>
          <a:xfrm>
            <a:off x="7571880" y="6477120"/>
            <a:ext cx="1251000" cy="37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99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45F0-C5C3-4871-8CC1-C1BDD4B15AE4}" type="slidenum">
              <a:rPr b="0" lang="en-US" sz="1400" spc="-1" strike="noStrike">
                <a:solidFill>
                  <a:srgbClr val="ffcc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ffcc"/>
              </a:buClr>
              <a:buSzPct val="65000"/>
              <a:buFont typeface="Wingdings" charset="2"/>
              <a:buChar char="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ffc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ffcc"/>
              </a:buClr>
              <a:buFont typeface="Helvetic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cc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cc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OAR  Expectations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2514600" y="2971800"/>
            <a:ext cx="58197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Health Education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At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99"/>
                </a:solidFill>
                <a:latin typeface="Arial"/>
              </a:rPr>
              <a:t>Englewood Middle School</a:t>
            </a:r>
            <a:endParaRPr b="0" lang="en-US" sz="4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B62C5-2000-4159-8BC1-D8ADB774A50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8EC61A4-2EAE-4985-8512-9ED31195024A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000"/>
                            </p:stCondLst>
                            <p:childTnLst>
                              <p:par>
                                <p:cTn id="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ur Vision for the Future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Learn Health concept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Health-enhancing skill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Become Health literate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Develop Health advocac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8C0-3A4D-459C-B434-4E1B38C08AA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018F8-B319-4836-8CAE-3B868F6049F7}" type="datetime1">
              <a:rPr lang="en-US"/>
              <a:t>07/28/26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0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680" y="220932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motional Safet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veryone has a right to learn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care not to take that away by being hurtful or dismissiv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We may be dealing with sensitive issu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Listen with an open min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ccept that people are different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hat’s said in Health, stays in Health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975A-EA66-4BA9-A70C-55F39A5B50D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5CCFAF-2EA3-4824-9840-21DE263B7C0F}" type="datetime1">
              <a:rPr lang="en-US"/>
              <a:t>07/28/26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Safety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participation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ull Value Contrac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here are no stupid quest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Positive comments or none at all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Fierce discussions, not argument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Agree to disagree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Discuss frankly but protectively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6801-75EC-4FBC-BD0C-F791011E08D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1B40D9-4598-44A3-A9A6-7CB6C5093605}" type="datetime1">
              <a:rPr lang="en-US"/>
              <a:t>07/28/26</a:t>
            </a:fld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Ownership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responsibility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Own your ac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ake on each task with full commitment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Make every portfolio entry your best work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ractice Internet Safet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DE92-8EE5-45DF-B3BC-FB58FF86E68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2317D3-2562-4F4F-96F5-20C54B12427E}" type="datetime1">
              <a:rPr lang="en-US"/>
              <a:t>07/28/26</a:t>
            </a:fld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09680" y="2286000"/>
            <a:ext cx="647856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articipate fully and appropriately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Engage in class discussion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Work cooperatively in group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Be productive at all times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Plan to work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In class and at home 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pride in your work 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6C86-AB28-456F-991E-38138BE8156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459A4-DABB-4B07-BB30-00ACA8CA85DA}" type="datetime1">
              <a:rPr lang="en-US"/>
              <a:t>07/28/26</a:t>
            </a:fld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2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Achievemen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Use all your tools for learning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Know your textbook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Come to class prepared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Maintain a neat class folder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Take quality notes (Cornell and Foldables)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99"/>
                </a:solidFill>
                <a:latin typeface="Arial"/>
              </a:rPr>
              <a:t>Study for assessments </a:t>
            </a:r>
            <a:endParaRPr b="0" lang="en-US" sz="24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Set goals for achievement and personal improvement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640D-BD23-4A54-BF79-4311F36F1507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AD8229-D02A-4ADF-BD54-D6AC3780E5D0}" type="datetime1">
              <a:rPr lang="en-US"/>
              <a:t>07/28/26</a:t>
            </a:fld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1000" fill="hold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1000" fill="hold"/>
                                        <p:tgtEl>
                                          <p:spTgt spid="2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yourself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Get enough sleep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at sensib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xercise regula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Drink plenty of wat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rust your feel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onor your beliefs and culture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EF97E-B0D1-4515-A9A7-9C767E73D19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F142E-D20E-4012-8BD8-3F583E2E5B2E}" type="datetime1">
              <a:rPr lang="en-US"/>
              <a:t>07/28/26</a:t>
            </a:fld>
          </a:p>
        </p:txBody>
      </p:sp>
    </p:spTree>
  </p:cSld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other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reat people fairly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Acknowledge differenc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Share commonalit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Be gentle with feelings and emotion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572-4B04-4267-A204-FAAD9742B3B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7DBF3E-081F-4686-87ED-B02BEC74ED2B}" type="datetime1">
              <a:rPr lang="en-US"/>
              <a:t>07/28/26</a:t>
            </a:fld>
          </a:p>
        </p:txBody>
      </p:sp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0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1000" fill="hold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05120" y="38052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Times New Roman"/>
              </a:rPr>
              <a:t>Respect (continued)</a:t>
            </a:r>
            <a:endParaRPr b="0" lang="en-US" sz="4400" spc="-1" strike="noStrike">
              <a:solidFill>
                <a:srgbClr val="ff9966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08240" y="2285640"/>
            <a:ext cx="647856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99"/>
                </a:solidFill>
                <a:latin typeface="Arial"/>
              </a:rPr>
              <a:t>Take care of things</a:t>
            </a:r>
            <a:endParaRPr b="0" lang="en-US" sz="32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Textbook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Equipment and supplies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 Folder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Health Education Portfolio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ffc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99"/>
                </a:solidFill>
                <a:latin typeface="Arial"/>
              </a:rPr>
              <a:t>Classroom</a:t>
            </a:r>
            <a:endParaRPr b="0" lang="en-US" sz="2800" spc="-1" strike="noStrike">
              <a:solidFill>
                <a:srgbClr val="ffcc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A1FD-BB8D-4012-A2BA-93915AD9620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DFECFC-3192-4465-8FCB-2E3B599C4445}" type="datetime1">
              <a:rPr lang="en-US"/>
              <a:t>07/28/26</a:t>
            </a:fld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10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1000" fill="hold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1000" fill="hold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1000" fill="hold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1000" fill="hold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4-01-01T00:00:00Z</dcterms:created>
  <dc:creator/>
  <dc:description/>
  <dc:language>en-US</dc:language>
  <cp:lastModifiedBy>Tech Services</cp:lastModifiedBy>
  <cp:lastPrinted>1904-01-01T00:00:00Z</cp:lastPrinted>
  <dcterms:modified xsi:type="dcterms:W3CDTF">2010-08-15T23:27:52Z</dcterms:modified>
  <cp:revision>4</cp:revision>
  <dc:subject/>
  <dc:title>Communicating Bad News</dc:title>
</cp:coreProperties>
</file>