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558E-43D0-4C09-884B-10B81126D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0063-D0CD-44B4-BDF0-A13B596CC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36F1-969F-4416-B3AE-293BC193F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0FC3-A184-4A2C-926A-C3CE6028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C6FA-2D73-4F67-B4AB-572CE8C75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86289-D5E5-4A56-A8ED-338FDEDBD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188A-B7A2-4B32-ADBC-8EC56DD1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36CE-2ED0-497B-960F-229ADA7DF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86B4-1940-4BDB-A235-B3763C15F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5FCAB-EE7B-4024-8B3B-DC61CF125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1158-8217-4665-A49B-B410A4DA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EA9A-8C6F-4032-8F48-40AEB0E7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7CF8-F762-46BD-9136-D39DC04CB8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33600" y="2732040"/>
            <a:ext cx="2370240" cy="1968480"/>
          </a:xfrm>
          <a:prstGeom prst="hexagon">
            <a:avLst>
              <a:gd name="adj" fmla="val 30102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Nutr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ances in food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r body needs to carry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s norm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5640" y="4041720"/>
            <a:ext cx="2633760" cy="13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90760" y="5240160"/>
            <a:ext cx="2633760" cy="13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0280" y="4040280"/>
            <a:ext cx="2633760" cy="13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30800" y="1735200"/>
            <a:ext cx="2633760" cy="13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32080" y="576360"/>
            <a:ext cx="2633760" cy="13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960" y="1709640"/>
            <a:ext cx="2633760" cy="13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117960" y="4164120"/>
            <a:ext cx="495360" cy="44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582800" y="4692600"/>
            <a:ext cx="11160" cy="550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29040" y="2413080"/>
            <a:ext cx="726840" cy="59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49680" y="193824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298840" y="2424240"/>
            <a:ext cx="826920" cy="604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5463720" y="4130640"/>
            <a:ext cx="639720" cy="363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3040" y="407880"/>
            <a:ext cx="230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Instruction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Label each box with the nutrient category.  Write the defini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80120" y="474840"/>
            <a:ext cx="2357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:  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e: _______ Period: 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20:02:48Z</dcterms:created>
  <dc:creator>Laura L. Mason</dc:creator>
  <dc:description/>
  <dc:language>en-US</dc:language>
  <cp:lastModifiedBy>Laura L. Mason</cp:lastModifiedBy>
  <dcterms:modified xsi:type="dcterms:W3CDTF">2010-09-12T20:09:27Z</dcterms:modified>
  <cp:revision>3</cp:revision>
  <dc:subject/>
  <dc:title>Slide 1</dc:title>
</cp:coreProperties>
</file>