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81F1-BC98-4867-AAFB-0B3A10838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DF61-DB2A-414C-86C0-EC6C55953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06C00-3045-4BAC-A213-E1C860302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774C-5D45-464F-AE3D-AFAA1AFB8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25CE-5135-4FA6-B1FB-477657C0A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0E6B-EC10-413B-A18A-E6942AD7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76DF-157E-477A-ABED-1B2A6929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4B45-0F79-4BE8-8F52-02B43925D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5325-13ED-42D8-92CF-D327F4005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B51E-31BD-479C-BD08-5AAB2FEA3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DDA6-E8C3-447D-A51B-DF907230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BCDC-881D-41F3-B8F3-6BC46C2E7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0D747-9B99-452E-AFE6-199A16A18E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33600" y="2732040"/>
            <a:ext cx="2370240" cy="1968480"/>
          </a:xfrm>
          <a:prstGeom prst="hexagon">
            <a:avLst>
              <a:gd name="adj" fmla="val 30102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Nutr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ances in food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r body needs to carry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norm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5640" y="4041720"/>
            <a:ext cx="2633760" cy="13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90760" y="5240160"/>
            <a:ext cx="2633760" cy="13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0280" y="4040280"/>
            <a:ext cx="2633760" cy="13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30800" y="1735200"/>
            <a:ext cx="2633760" cy="13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32080" y="576360"/>
            <a:ext cx="2633760" cy="13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960" y="1709640"/>
            <a:ext cx="2633760" cy="13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117960" y="4164120"/>
            <a:ext cx="495360" cy="44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582800" y="4692600"/>
            <a:ext cx="11160" cy="550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29040" y="2413080"/>
            <a:ext cx="726840" cy="59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49680" y="193824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298840" y="2424240"/>
            <a:ext cx="826920" cy="604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5463720" y="4130640"/>
            <a:ext cx="639720" cy="363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3040" y="407880"/>
            <a:ext cx="23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nstruction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Label each box with the nutrient category.  Write the defini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80120" y="474840"/>
            <a:ext cx="2357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:  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e: _______ Period: 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20:02:48Z</dcterms:created>
  <dc:creator>Laura L. Mason</dc:creator>
  <dc:description/>
  <dc:language>en-US</dc:language>
  <cp:lastModifiedBy>Laura L. Mason</cp:lastModifiedBy>
  <dcterms:modified xsi:type="dcterms:W3CDTF">2010-09-12T20:09:27Z</dcterms:modified>
  <cp:revision>3</cp:revision>
  <dc:subject/>
  <dc:title>Slide 1</dc:title>
</cp:coreProperties>
</file>