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773-AF8B-4E6D-B130-0E45C562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519-8821-4C4B-9C6E-6A32CBC4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9E3-75C0-4938-A1CD-F5186210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8A8-04F0-47D9-A2F6-3F012C65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24B-073C-4BC1-902F-2489751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087-E283-4015-8996-2302C1EA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49A-E777-4A29-AF61-80CDC818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B32-19AA-4E98-87B7-DAB7DE2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EF1-AF71-4362-B5CC-F3B93588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C46-C32C-43ED-86AE-02366223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910-A7EE-49A5-A42F-167A95B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6CA-5BF4-4F97-947F-BDECB92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40DE-A2CE-43FB-B084-9C5DB1BC7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0" y="2732040"/>
            <a:ext cx="2370240" cy="1968480"/>
          </a:xfrm>
          <a:prstGeom prst="hexagon">
            <a:avLst>
              <a:gd name="adj" fmla="val 3010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ances in foo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r body needs to car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norm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404172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0760" y="524016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0280" y="404028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0" y="173520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2080" y="57636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70964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17960" y="4164120"/>
            <a:ext cx="49536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82800" y="4692600"/>
            <a:ext cx="11160" cy="55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29040" y="2413080"/>
            <a:ext cx="72684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9680" y="19382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8840" y="2424240"/>
            <a:ext cx="826920" cy="60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63720" y="4130640"/>
            <a:ext cx="639720" cy="36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0788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struct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Label each box with the nutrient category.  Write the defin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474840"/>
            <a:ext cx="235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: 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e: _______ Period: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02:48Z</dcterms:created>
  <dc:creator>Laura L. Mason</dc:creator>
  <dc:description/>
  <dc:language>en-US</dc:language>
  <cp:lastModifiedBy>Laura L. Mason</cp:lastModifiedBy>
  <dcterms:modified xsi:type="dcterms:W3CDTF">2010-09-12T20:09:27Z</dcterms:modified>
  <cp:revision>3</cp:revision>
  <dc:subject/>
  <dc:title>Slide 1</dc:title>
</cp:coreProperties>
</file>