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815F-D464-4246-8905-1553B61E8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F17B-D440-4B19-A785-494CDF84E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C147C-9144-476C-909B-DB17408D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64E8-6C8C-48E4-A9CA-5582CE45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133-76F6-43EC-9017-AA0F6F5F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94E0-FFA5-4080-B74F-81B5CA75F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8FA7-A13D-4B0B-AA6E-7B1F0D94A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5091-BEB3-4CEE-B204-7AB560B6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217-10DE-4F3E-B06C-AE4765242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C08-B5A6-4BD1-92B9-4241296B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8742-C6F0-4E4D-A82D-1B95D0FBA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D1AE1-FA86-4A53-9092-E3653213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E1C37-DC13-4A61-89D2-53A1F831C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33600" y="2732040"/>
            <a:ext cx="2370240" cy="1968480"/>
          </a:xfrm>
          <a:prstGeom prst="hexagon">
            <a:avLst>
              <a:gd name="adj" fmla="val 30102"/>
              <a:gd name="vf" fmla="val 1154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 Nutr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Substances in food t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your body needs to carry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its normal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85640" y="404172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90760" y="524016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0280" y="404028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30800" y="173520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32080" y="576360"/>
            <a:ext cx="2633760" cy="13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960" y="1709640"/>
            <a:ext cx="2633760" cy="137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3117960" y="4164120"/>
            <a:ext cx="495360" cy="44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4582800" y="4692600"/>
            <a:ext cx="11160" cy="550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29040" y="2413080"/>
            <a:ext cx="726840" cy="59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49680" y="1938240"/>
            <a:ext cx="0" cy="793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5298840" y="2424240"/>
            <a:ext cx="826920" cy="604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5463720" y="4130640"/>
            <a:ext cx="639720" cy="363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73040" y="407880"/>
            <a:ext cx="2303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Instructions: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 Label each box with the nutrient category.  Write the defini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80120" y="474840"/>
            <a:ext cx="2357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Name:  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Date: _______ Period: 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2T20:02:48Z</dcterms:created>
  <dc:creator>Laura L. Mason</dc:creator>
  <dc:description/>
  <dc:language>en-US</dc:language>
  <cp:lastModifiedBy>Laura L. Mason</cp:lastModifiedBy>
  <dcterms:modified xsi:type="dcterms:W3CDTF">2010-09-12T20:09:27Z</dcterms:modified>
  <cp:revision>3</cp:revision>
  <dc:subject/>
  <dc:title>Slide 1</dc:title>
</cp:coreProperties>
</file>