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508-3C29-4DF2-B257-1C855B24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4F8-DC0F-4D54-A5FC-698BAAAA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7D9-4C60-45CB-ABFA-415AF3C5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1B5-EF85-4C88-A099-30757ACE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FA0-2273-4ABC-9958-C5C84289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CC0-71E0-46CC-94FD-78F3E3AB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C71-6625-44FB-91D0-1B05666A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ABE-6B64-4DF9-99FE-9105A70F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D16-AFF3-461D-8485-902F0B66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19A-319B-4DF2-BE5A-C19B739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389-07F3-417E-A5EB-BC0F85CD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F83-B5DB-4EF4-9EDB-9A6C7B72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BA1D-91F1-4889-9D01-3EA1F3952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33600" y="2732040"/>
            <a:ext cx="2370240" cy="1968480"/>
          </a:xfrm>
          <a:prstGeom prst="hexagon">
            <a:avLst>
              <a:gd name="adj" fmla="val 3010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Nutr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ances in food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r body needs to car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norm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640" y="404172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90760" y="524016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0280" y="404028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30800" y="173520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32080" y="57636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60" y="170964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17960" y="4164120"/>
            <a:ext cx="495360" cy="44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582800" y="4692600"/>
            <a:ext cx="11160" cy="550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29040" y="2413080"/>
            <a:ext cx="726840" cy="59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9680" y="19382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298840" y="2424240"/>
            <a:ext cx="826920" cy="60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463720" y="4130640"/>
            <a:ext cx="639720" cy="363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3040" y="40788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struction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Label each box with the nutrient category.  Write the defin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80120" y="474840"/>
            <a:ext cx="2357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:  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e: _______ Period: 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02:48Z</dcterms:created>
  <dc:creator>Laura L. Mason</dc:creator>
  <dc:description/>
  <dc:language>en-US</dc:language>
  <cp:lastModifiedBy>Laura L. Mason</cp:lastModifiedBy>
  <dcterms:modified xsi:type="dcterms:W3CDTF">2010-09-12T20:09:27Z</dcterms:modified>
  <cp:revision>3</cp:revision>
  <dc:subject/>
  <dc:title>Slide 1</dc:title>
</cp:coreProperties>
</file>